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C33BA-CC69-4E8C-973B-67F5AD6F5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58C23-8E63-43A0-9E2D-82A8B36E4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7EAD5-D264-4271-A674-1A52B163D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CBB36-40CE-4E47-B1C7-ED325C955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C81BB-4CC8-42B1-9154-7823FF684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7455-7C7B-4B9C-B791-C4F0D4CF6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85B7E-2D27-47A7-A8B9-3A5E810C8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416CE-477D-4BE4-A2A3-C34FA5C04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4B046-1F96-4879-9EC8-EA3E5090E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E03FC-9DB9-4A92-B217-D9D0985DD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80FB9-1F10-43AF-BB91-C4C63341B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A3EEE-EB3B-4B35-9512-C7179510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23A8A-36CF-4531-8E38-99A70593D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5D61D-735C-4D0E-A863-60DE3C6CA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791DA-FB7B-497D-9227-9550290BC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5B649-91F4-4BC3-8E7C-78069BC86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2113A-30CB-46E5-A6CE-3FA07262E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A210C-8E0E-4B68-9257-A2FC4AEE1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77CF6-5A57-4B37-861A-EE77054E2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D4A9B-4ABC-4D34-9D1C-EC2D293F6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A3584-55FE-4DA1-AAB3-648FB1E3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9C61-FF3F-4F37-BAE5-FA5532E5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15ED-C2D2-456B-B847-C9CF6878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1078-A942-4AAD-ACFB-295F7043E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F410-2CE5-42A6-BD1E-389C4B1B0C14}"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B051-6097-4D15-9C47-DB592F9DB5E1}"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Movie/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iMovie.</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iMovie.</a:t>
            </a:r>
            <a:endParaRPr b="0" lang="en-US" sz="24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7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iMovie?</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iMovie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n i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n iMovie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s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iMovie.</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iMovie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8:58Z</dcterms:modified>
  <cp:revision>35</cp:revision>
  <dc:subject/>
  <dc:title>Workshop Title</dc:title>
</cp:coreProperties>
</file>